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E336-6D06-4BD0-B6A0-1B3C8FD7A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E727-F42A-4E09-9083-4C9F6BDB4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661E-C71C-4E5F-8BB4-EC4B14E6D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ED76-F49D-4C92-BCD0-02271AD39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0B43-3866-493F-AB09-9D2416245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800D-5336-4B06-A932-328D372A2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A0CE-96D4-460D-B797-C2C2C9E77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1AC8-D972-4C10-BA44-5DDB9F210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A0DA-BEC2-4AB0-86D8-C8874F83D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9A7E-1C1D-493C-8265-3E9E4F56C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8979-2788-4839-B0CA-BC35536EE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964C-A00B-4FC6-8707-1F3B31797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A2A49-81EE-4526-893B-6BC6DBB59C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velopment 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room Presenter 3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eps all of the application’s global 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s a hierarchy of classes and compon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s UI and back-end to listen for changes via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opertyPublish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terf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forces thread safe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U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0" y="277920"/>
          <a:ext cx="9144000" cy="657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77920"/>
                    <a:ext cx="9144000" cy="657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ad Safe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objects each have their own ReaderWriterLo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ptions thrown if caller does not obtain a lock — forces developer to think about threading issu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odel.RWL.AquireReaderLock(Timeout.Infinite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ry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Perform operations requiring read access to mode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 finally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odel.RWL.ReleaseReaderLock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cking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e-grained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design decis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can always make locking “coarser” if necess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has already been done with the TableOfContents mod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verse is not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erWriterLocks may not benefit performance, but allow safety enforce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-End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k-end components will access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direct access to UI compon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I displays state by hooking into model’s event listen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omeModel.Changed[“PublishedProperty"].Add(new PropertyEventHandler(this.HandlePublishedPropertyChanged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issue is removing event listeners when components are Disposed to prevent memory lea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kBuilder Back-E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rialization and deserialization of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SD ↔ Deck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oked directly by UI during file Open or Save comm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oked by Networking back-end for broadca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tworking Back-E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Back-Ends for each supported protocol (RTP, ConferenceXP Capabilit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back-end accessed via its ProtocolModel obj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-end is responsible for populating list of “classrooms” (venue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ens to events coming from the ClassroomModel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the classroom’s Connected property is set to true by the UI, the back-end connects and populates the list of available present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tes and listens to events from all aspects the model regarding decks, slides, sheets, ink, navigation, etc. and automatically broadcasts changes to stud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I U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0" y="533520"/>
          <a:ext cx="9144000" cy="628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33520"/>
                    <a:ext cx="9144000" cy="628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14T19:51:50Z</dcterms:created>
  <dc:creator>Peter Davis</dc:creator>
  <dc:description/>
  <dc:language>en-US</dc:language>
  <cp:lastModifiedBy>Peter Davis</cp:lastModifiedBy>
  <dcterms:modified xsi:type="dcterms:W3CDTF">2005-07-14T20:30:19Z</dcterms:modified>
  <cp:revision>16</cp:revision>
  <dc:subject>Classroom Presenter 3.0</dc:subject>
  <dc:title>Development Introduction</dc:title>
</cp:coreProperties>
</file>